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193-5DE1-424C-AEB4-B509E94B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10E-9CBD-41BC-A067-923876F6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3B2-AF98-4EEC-9A84-B1CE4BEF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44F-2A71-4900-A8BF-00AEA300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3B73-A617-4DA2-81CC-4F143DEF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037C-3869-4108-8A26-0AED30D2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A72-9903-4122-B853-294F073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C6A6-2CEE-4FB3-B6FE-2E130A87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6C21-FB64-4EE6-9345-930A24F4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05BA-AE67-4962-A489-AE121BCA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87C2-8C03-4A5C-9359-2F72446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FC4-2D7C-40BA-A036-3FEB53AC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27F5-3B3C-4C0A-9946-26920FBA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606F-8676-41F5-A1D0-A23AC3B8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EF30-6AA2-497D-BF79-479A824E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B661-F947-4F50-BFF4-B55CB537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04FA-3E4A-47A9-B306-3EBD3785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754-63ED-4EAE-B720-DC5CDE02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57A-38E7-4312-9671-C070B38C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6CF-EDA3-421B-9883-1044D158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EB7-9752-40C2-86A7-952E9BD1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870-97D2-41BB-8B15-EDF63C2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AE2-0FCA-4B85-8C83-A6E78E61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C69-0A02-4BC7-9AA1-6A8CA60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F377-9555-4AD0-BB93-5314EA7D63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38A2-2DA6-4B1E-90B2-3902983B38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bit 3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 First Thing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Where do you spend 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most of your time?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l spend time in all the quadrants, but the goal should be to increase the time spent in Q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Q1 by procrastinating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no to Q3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down on Q4, slacke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Plan Weekl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15 minutes each week to plan your week. Not daily, not mon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ost important things I need to do this week?  Limit the number to no more tha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big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each role you fulfill eg student, friend, family member, employee, individual, team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Weekly Plan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– Block out time for your big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eing the important things listed, you can then plan when you will do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for that test on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irthday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Weekly Plan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– Schedule Ever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day with the little to-dos like daily tasks (take out garbage), 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Adapt Dail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may come up or your plan didn’t go quite like you thought it w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you don’t accomplish everything you set out to, you probably accomplished more than if you had not planned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Does this system work?</a:t>
            </a:r>
            <a:br>
              <a:rPr sz="3200"/>
            </a:b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ot enough time to get it all done!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 2 – you decided what was most important to you, what should b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 3 – helps you plan on how to put those thing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power- the strength to say yes to your most importa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power- the strength to say no to less important things and to pe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Packing More into Your Lif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pack for a trip, if you are more organized then you can fit more into your sui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more organized in your life to fit more in, you can use the Time Quadrant Model which divides things into important and urgent 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What is Important?/What is Urgent?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- Activities that contribute to your mission an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, exercise, relationships, work,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-Pressing things, in-your-face-things, activities that demand immediat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calls, interruptions, a test tomorrow, car break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re are 4 Time Quadrants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and U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rocrastina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 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end gets Inj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fo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Due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t and No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Yes-M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mportant phon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ru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people’s small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er pres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and Not U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rioritiz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/Goal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say due in a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rgent and No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Slack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much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less phon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much computer 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l marath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w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uadrant 1 – The Procrastinator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always be Q1 things that we can’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minut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utting things off, like volunteering until the last couple of weeks, people become a “stress ca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ing too much of your time here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 and anx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ocre pa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uadrant 3 – The Yes-Man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spend a lot of time in this quadrant attend to matters that are urgent and may seem important, but are not. For example, a ringing phone.  This quadrant is also full of things that are important to other people, but are not important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spending too much time 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a people ple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like a doormat for others to wipe their fee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uadrant 4-The Slacker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category of waste and excess.  There is nothing here that is urgent or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ppears to be relaxation or renewal turns into was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s of Q4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k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uadrant 2- The Prioritizer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drant of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ce where you want to spend the mos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erson plans ahead for doing first thing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spending time her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1:45:36Z</dcterms:created>
  <dc:creator>Brighton Central Schools</dc:creator>
  <dc:description/>
  <dc:language>en-US</dc:language>
  <cp:lastModifiedBy>Phil Schneider</cp:lastModifiedBy>
  <dcterms:modified xsi:type="dcterms:W3CDTF">2012-04-22T23:42:08Z</dcterms:modified>
  <cp:revision>3</cp:revision>
  <dc:subject/>
  <dc:title>Habit 3</dc:title>
</cp:coreProperties>
</file>